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A96-9B65-4E10-8536-C2815A9B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E72-26F8-4C73-8AD2-F9404DE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F59-A77C-4409-88AE-9765E53C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D59-D851-48B0-8F1C-B60E69B5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167E-21D6-4E54-8C44-AC474DC5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669-8706-47D9-9FAD-2CCF25C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6F42-4689-4277-9030-74C278F6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0ED-F5DD-488B-A58F-5A26A05B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EA66-DD78-47AF-8160-EEDAF30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C3A-97F9-4751-903F-0CAD96B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8359-EDF1-4520-B7CE-27A05289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598-A642-47CB-AB85-93D8F6BF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91D9-B0A9-42DC-B944-DB63DE2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E21-27F0-4D13-A8F8-4640FFD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2A0F-AC3D-46C6-A18E-03FE018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134C-DE64-4C1C-B4BE-9BDB1DC1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9BC7-6191-4B9B-9084-A9C02030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9DDA0-8B8B-4F62-A205-EA106E78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A79EC-71ED-470B-8E11-197D84F2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4A7E9-BF39-4773-83F0-D248AF6B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88BB5-E41E-4827-89D6-0665FA55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0D467-C94E-4782-A81E-3574A82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1AF-2912-45E9-947E-3798148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D510C-AFF0-4C31-A083-D45DA4D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A7D36-956B-402E-997E-D2B8276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E6788-4D56-4095-96DE-1F191D9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DA845-A087-4FF7-B4EB-688245A3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1004EE-2603-4201-92DE-FBBB8CA7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9A5A2-C294-4E58-AE40-C319B22D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B6976-0E53-453E-9788-28132211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AD1C-084A-4538-8AD8-C13FC183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F9A2-D78C-4263-B51D-5D20C19B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A740-1DB7-422F-B698-88FDED9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163-6F74-413A-AC86-1F1F0B29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849B-ABAA-477C-AC0A-6B43255B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33AE-480B-42C5-82DB-283C40AB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0C67-23C8-4BA5-9F69-0C86B07D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7C1D-E02E-4714-B3DE-A5B2632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FE38-EF65-4EB2-9F76-28A0EF2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767E-FA76-42A7-88C7-2434D66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5408-B75B-4848-AB98-854C090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9539-133D-404E-B18F-560069E2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37BD-03E3-4EC2-B6A7-9A07460D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941-A2CA-4209-B54C-3432A2C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36C-F5D4-4725-A27C-631AD7B8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C7A-65E2-4093-86D5-AF3061C1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18C-1969-4A01-8A00-0C31AC97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ABE-3AD7-4A9F-9A72-7654BB45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8E7-0B66-402C-B226-5BF85B68B05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795-DB59-43AA-B25D-6A35668F01E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5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55DC-774A-48EB-A57F-D8288526C5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0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51B-B25F-4166-B12C-101D969FA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us.org/files/images/STOCK%2520-%2520Russia.jpg&amp;imgrefurl=http://www.acus.org/new_atlanticist/russia-well-trade-missiles-defense-shield&amp;usg=__GJEnWrg1wEuMFg-X01NI32rJzP0=&amp;h=320&amp;w=400&amp;sz=20&amp;hl=en&amp;start=29&amp;zoom=1&amp;um=1&amp;itbs=1&amp;tbnid=pwzj4QCxnj_bYM:&amp;tbnh=99&amp;tbnw=124&amp;prev=/images%3Fq%3Drussia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us.org/content/stock-russi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990360" y="3200400"/>
            <a:ext cx="693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b3da"/>
                </a:solidFill>
                <a:latin typeface="Bradley Hand ITC"/>
              </a:rPr>
              <a:t>By: Jennifer Zou, Jason Xiao, and Magdalena Wierzbowsk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cc00"/>
                </a:solidFill>
                <a:latin typeface="Harrington"/>
              </a:rPr>
              <a:t> </a:t>
            </a:r>
            <a:r>
              <a:rPr b="0" lang="en-US" sz="3600" spc="-1" strike="noStrike">
                <a:solidFill>
                  <a:srgbClr val="e57e3f"/>
                </a:solidFill>
                <a:latin typeface="Harrington"/>
              </a:rPr>
              <a:t>S.S Per.1 / Mr.Griffith / Rm.13 </a:t>
            </a:r>
            <a:r>
              <a:rPr b="0" lang="en-US" sz="36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5335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What is Present Day Russia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836640" y="2438280"/>
            <a:ext cx="70992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2120" y="272520"/>
            <a:ext cx="8701200" cy="8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4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22120" y="1646280"/>
            <a:ext cx="86997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2120" y="274680"/>
            <a:ext cx="8699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4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1760" y="1279440"/>
            <a:ext cx="8701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1211400" y="2057400"/>
            <a:ext cx="5624280" cy="463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61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7162920" y="5433840"/>
            <a:ext cx="152388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Monotype Corsiva"/>
              </a:rPr>
              <a:t>Advanta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is now a free market economy and a democra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 has a better chance at winning a war because of its wint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Russians get free health care and Russian made medic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It has great food there, that is inexpensive like squid salad, crab meat sal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Jobs aren’t very hard to fin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onotype Corsiva"/>
              </a:rPr>
              <a:t>You can have a very good time in Russia from movies, clubs, theaters, operas, concerts, exhibitions, festivals, and fai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                                 </a:t>
            </a:r>
            <a:r>
              <a:rPr b="0" lang="en-US" sz="4400" spc="-1" strike="noStrike">
                <a:solidFill>
                  <a:srgbClr val="66ffff"/>
                </a:solidFill>
                <a:latin typeface="Kunstler Script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Brought to you b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Magdalena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Jason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                               </a:t>
            </a:r>
            <a:r>
              <a:rPr b="0" lang="en-US" sz="3200" spc="-1" strike="noStrike">
                <a:solidFill>
                  <a:srgbClr val="66ffff"/>
                </a:solidFill>
                <a:latin typeface="Monotype Corsiva"/>
              </a:rPr>
              <a:t>and Jennif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4849"/>
                </a:solidFill>
                <a:latin typeface="Papyrus"/>
              </a:rPr>
              <a:t>Free Market Economy /Free Enterprise System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People can open busin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Chose their own care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empus Sans ITC"/>
              </a:rPr>
              <a:t>Workers can lose their jobs when a business decl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Snap ITC"/>
              </a:rPr>
              <a:t>Governmen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Prices have ris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built nuclear power plants which can cause disastrous consequences if uncontroll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Government no longer sets prices for foods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Kristen ITC"/>
              </a:rPr>
              <a:t>Federal republic/ democrac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Ravie"/>
              </a:rPr>
              <a:t>Government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Power is divided between national and state government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A President leads this na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Russian president can issue orders that become laws even if they aren’t passed by the legisla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Playbi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Playbill"/>
              </a:rPr>
              <a:t>Officials have to learn how to accept disagreements over government politic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STOCK - Rus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Wide Latin"/>
              </a:rPr>
              <a:t>Other Fact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Home to multiple different ethnic groups –some want to form their own, independent countries such as Chechny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About 75% of Russia’s people live in cit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Large number of people living in poverty have to wait in line for food by government agenc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Curlz MT"/>
              </a:rPr>
              <a:t>Urban, or city, areas are large and modern with stone or concrete buildings &amp; wide streets</a:t>
            </a:r>
            <a:r>
              <a:rPr b="0" lang="en-US" sz="2800" spc="-1" strike="noStrike">
                <a:solidFill>
                  <a:srgbClr val="fe1f08"/>
                </a:solidFill>
                <a:latin typeface="Curlz MT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STOCK - Russ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tencil"/>
              </a:rPr>
              <a:t>Facts continued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Pollution is made by dirty smoke and dumped pois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Air pollution  causes many people to suffer from lung diseas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The life expectancy is shorter because of cance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90% of the people speak Russian langu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Juice ITC"/>
              </a:rPr>
              <a:t>Many prosperous people live in Mosco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4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6" dur="2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8" dur="20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90" dur="20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ut gas (right). And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left) are nuclear power pla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4379760" y="3086280"/>
            <a:ext cx="4764240" cy="31734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27672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6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1280" y="274320"/>
            <a:ext cx="846144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61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341280" y="1646280"/>
            <a:ext cx="8461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0:35Z</dcterms:created>
  <dc:creator> </dc:creator>
  <dc:description/>
  <dc:language>en-US</dc:language>
  <cp:lastModifiedBy> </cp:lastModifiedBy>
  <dcterms:modified xsi:type="dcterms:W3CDTF">2010-12-20T18:38:57Z</dcterms:modified>
  <cp:revision>12</cp:revision>
  <dc:subject/>
  <dc:title>Present Day Russia</dc:title>
</cp:coreProperties>
</file>